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3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573D-447F-40A0-9D29-EB1A7695DB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009-0963-4DCA-BF4D-CFF3E684C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2DF-3AA3-4680-8723-6D81D1C1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453-EB83-4A73-AC58-0D5E4E0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536-6548-4073-9E45-602C665E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E7F-80DB-4658-9043-FACA3CF5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156C-6FA6-4C44-AF71-6B7EF0F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6E0E-C92F-4740-89BD-45709A11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075A-F588-4756-ACEE-C9C8F9D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33CA-6BDB-4817-BF89-1E8D85B6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771-4F2F-4BCD-B9F4-A1C2C21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9DF9-2F65-4ADA-843B-F810B11E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746-6FA8-427B-A906-168A2942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9C8-B83C-41FD-82FF-B602C81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D957-8476-4F9A-8F99-FDA127A7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DA3-29BE-4143-B12D-F6B2FF06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1670-4361-454C-A500-8C2C037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3B23-7A73-4A58-8591-FC5E69B1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E6F-5630-4F34-B574-51192AA5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4357-FBA8-4A3A-AFC0-B9D8D90B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673F-B86D-44C0-905F-F3FC11DB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00DE-4588-41CC-B9FC-B75EAEF0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621FF-2BCC-4624-AFF9-CB83B63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15DE8-31D5-4C03-A847-439FD1BF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28C-FE96-47DC-B7FF-A201916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313F-3F4C-49E8-991D-1BE8D95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8ECC-322A-402E-A858-70BCD94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4C87-2493-4C94-B045-6665BA9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4E28-1692-47F9-A2E4-A6831DA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21D3-466A-4E55-99AD-8A3373E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8249-4BFB-4780-A9EB-0D1B0FFA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83FA-70DB-4266-AFF7-EB251F3E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180B-7206-464B-AAA5-E938DD7B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58E7-2430-4F33-888E-8BF55AB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3B07-F0C3-451F-B9E6-4610E3A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DC3-6E5E-4B67-9319-C2BC9F0E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4BE1-0F6A-480C-9F16-1ADDAC1F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C6C4-B1D5-4126-848C-1ECD360A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A3F5-DC07-48C1-ADF1-9563FFF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B7A5-7BE2-45BC-8C00-87870083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54E64-A2A5-44B6-9AF7-FBC985A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5E89-6800-4A0F-917A-CCBAEB0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0F75-7C82-4469-8E8F-6BA0C056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F753-1A2D-4222-AC70-AE94EAED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C76D-8174-4F09-8CFC-74980CBB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455-CF16-4706-AD0A-DE6AF35A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554-8E73-4540-BF6F-1C440182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271-CF46-411A-8908-7859BA7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C5B-E998-4CD4-AB7A-A0A4B33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605-DF7D-409A-BD4C-48D86F90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0D0-95D8-42C7-A8CF-4554B9FDA5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A7A-92BB-4214-A8FE-27720D2A487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BD3-885C-418D-A31F-CE36DFB2ECB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6773-4D37-4CD2-BFB4-D4CB5DF142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704880"/>
            <a:ext cx="70074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ныряйте в воду в незнакомых мес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Рисунок 4" descr="http://suzdalregion.ru/files/sfera_dejtelnosti/go_chs/a1b886169910beab24fa6dfaf023cf62.jpg"/>
          <p:cNvPicPr/>
          <p:nvPr/>
        </p:nvPicPr>
        <p:blipFill>
          <a:blip r:embed="rId1"/>
          <a:stretch/>
        </p:blipFill>
        <p:spPr>
          <a:xfrm>
            <a:off x="539640" y="157464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http://lyceum2.ucoz.ru/_si/0/74989559.jpg"/>
          <p:cNvPicPr/>
          <p:nvPr/>
        </p:nvPicPr>
        <p:blipFill>
          <a:blip r:embed="rId1"/>
          <a:stretch/>
        </p:blipFill>
        <p:spPr>
          <a:xfrm>
            <a:off x="108000" y="40464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5000400" cy="5429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429160" y="857160"/>
            <a:ext cx="35006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раскачивайте лодк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купайтесь в запрещённых мест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5857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устраивайте игр вблизи вод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6929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купайтесь в нетрезвом вид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929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Не прыгайте в воду с лодок и кате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5000400" cy="4429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5500800" y="1714680"/>
            <a:ext cx="3286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рещено плавание в судоходных мест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786120" y="857160"/>
            <a:ext cx="4929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Купайтесь только в разрешённых мест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7000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Изучите правила пребывания на водоём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Объект 3" descr="http://s3.netangels.ru/inova-media/cache/cd/ce/92/0c/93/14/cdce920c9314b91e4a6ee9919b971ca0.jpg"/>
          <p:cNvPicPr/>
          <p:nvPr/>
        </p:nvPicPr>
        <p:blipFill>
          <a:blip r:embed="rId1"/>
          <a:stretch/>
        </p:blipFill>
        <p:spPr>
          <a:xfrm>
            <a:off x="1030320" y="1935000"/>
            <a:ext cx="7083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купайтесь у крутых обрывистых берегов, в заболоченных местах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9292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Объект 3" descr="http://lyceum2.ucoz.ru/_si/0/51726603.jpg"/>
          <p:cNvPicPr/>
          <p:nvPr/>
        </p:nvPicPr>
        <p:blipFill>
          <a:blip r:embed="rId1"/>
          <a:stretch/>
        </p:blipFill>
        <p:spPr>
          <a:xfrm>
            <a:off x="539640" y="692280"/>
            <a:ext cx="82296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ереохлаждайтесь и не перегревайтес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57200" y="2143080"/>
            <a:ext cx="6786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купайтесь в штормовую погод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858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одплывайте к проходящим суд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358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заплывать за буй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857840" cy="4143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5214960" y="1857240"/>
            <a:ext cx="3786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играйте на высоких берег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2000160"/>
            <a:ext cx="6500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заплывайте далеко на надувных плавсредств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43000" y="1714680"/>
            <a:ext cx="6786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3" descr="http://lyceum2.ucoz.ru/_si/0/89057840.jpg"/>
          <p:cNvPicPr/>
          <p:nvPr/>
        </p:nvPicPr>
        <p:blipFill>
          <a:blip r:embed="rId1"/>
          <a:stretch/>
        </p:blipFill>
        <p:spPr>
          <a:xfrm>
            <a:off x="468360" y="620640"/>
            <a:ext cx="84358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плавайте на самодельных плот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6786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 купайтесь рядом с очистными трубам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929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Нельзя баловаться на вод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0005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21:01Z</dcterms:created>
  <dc:creator>Admin</dc:creator>
  <dc:description/>
  <dc:language>en-US</dc:language>
  <cp:lastModifiedBy>user</cp:lastModifiedBy>
  <dcterms:modified xsi:type="dcterms:W3CDTF">2019-03-23T14:47:10Z</dcterms:modified>
  <cp:revision>27</cp:revision>
  <dc:subject/>
  <dc:title>Слайд 1</dc:title>
</cp:coreProperties>
</file>